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larmbuzzer.wav" ContentType="audio/x-wav"/>
  <Override PartName="/ppt/media/wow1.wav" ContentType="audio/x-wav"/>
  <Override PartName="/ppt/media/yeehaw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9BC7-B9C2-440A-99B2-8A17A5F9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2115-89FB-464E-82AB-FD6DBC6D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ED31-534F-4580-8A72-E4D2675C9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439E-AEB3-4C4D-8A3C-EB3C93853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77F5-216D-49DD-94E8-3ED33C43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199F-C4A6-4866-8A36-DDC0463D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BAD0-9E4B-4CC3-99E4-3AE3CC74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A6EA-99AA-4B94-83C4-B677DAE9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BB69-16E5-4BEE-B45B-265616BC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B5B6-07D9-4FF3-978C-AAF90F29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35E6-5784-4CCF-818D-3637480D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B7D5-DD1A-4043-809C-9B205D92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465F-50E5-4C2B-A7A9-FEE674C2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9342-AE56-4D3B-B41A-E4DDBA5B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9A1E-073F-4371-8A68-3F441C61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D89F-2519-45EC-8ABD-21AE3BA0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B666-1111-4C5A-8247-EE4E58FD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21B1-5722-417F-A460-15DE5D1E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CC39-5954-44C7-AA6D-21E648C2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9FD3-566D-419A-9C17-858503F7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C0B3-D0B5-456F-A3B7-914B2801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F9B7-B267-43BE-B6FD-21BF2C02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0C6B-F9BD-474E-9AC3-A57A48FB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C191-156C-4550-8771-9837C1E1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9933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99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9933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9933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9933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9933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357A-06A0-4ECB-8426-7BF147741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33ff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33ff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33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33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33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33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33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33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33ff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9933ff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9933ff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9933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9933ff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9933ff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9933ff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9933ff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9933ff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9933ff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9933ff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9933ff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9933ff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9933ff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9933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33ff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33ff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9933ff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9933ff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9933ff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9933ff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9933ff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9933ff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9933ff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9933ff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9933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933ff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33ff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33ff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33ff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9933ff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9933ff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9933ff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9933ff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9933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33ff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33ff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33ff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9933ff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9933ff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9933ff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9933ff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9933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9933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99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9933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9933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9933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9933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33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5415-44BE-4149-88FA-502454DABC5C}" type="slidenum">
              <a:rPr b="0" lang="en-US" sz="1400" spc="-1" strike="noStrike">
                <a:solidFill>
                  <a:srgbClr val="9933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7.xml"/><Relationship Id="rId3" Type="http://schemas.openxmlformats.org/officeDocument/2006/relationships/slide" Target="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0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2.xml"/><Relationship Id="rId3" Type="http://schemas.openxmlformats.org/officeDocument/2006/relationships/slide" Target=""/><Relationship Id="rId4" Type="http://schemas.openxmlformats.org/officeDocument/2006/relationships/slide" Target="slide23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6.xml"/><Relationship Id="rId3" Type="http://schemas.openxmlformats.org/officeDocument/2006/relationships/slide" Target=""/><Relationship Id="rId4" Type="http://schemas.openxmlformats.org/officeDocument/2006/relationships/slide" Target="slide25.xm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8.xml"/><Relationship Id="rId3" Type="http://schemas.openxmlformats.org/officeDocument/2006/relationships/slide" Target=""/><Relationship Id="rId4" Type="http://schemas.openxmlformats.org/officeDocument/2006/relationships/slide" Target="slide29.xm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2.xml"/><Relationship Id="rId3" Type="http://schemas.openxmlformats.org/officeDocument/2006/relationships/slide" Target="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yeehaw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larmbuzzer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ow1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enry and Mudge</a:t>
            </a: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8095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Comic Sans MS"/>
              </a:rPr>
              <a:t>Spelling</a:t>
            </a:r>
            <a:endParaRPr b="0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Comic Sans MS"/>
              </a:rPr>
              <a:t>Right or Wrong ???</a:t>
            </a:r>
            <a:endParaRPr b="0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omic Sans MS"/>
              </a:rPr>
              <a:t>Created by Kathy Wiles</a:t>
            </a:r>
            <a:endParaRPr b="0" lang="en-US" sz="2000" spc="-1" strike="noStrike">
              <a:solidFill>
                <a:srgbClr val="99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omic Sans MS"/>
              </a:rPr>
              <a:t>July 22, 2008</a:t>
            </a:r>
            <a:endParaRPr b="0" lang="en-US" sz="20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Listen for a sound you left out.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Try again.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76" name="AutoShape 4">
            <a:hlinkClick r:id="" action="ppaction://hlinkshowjump?jump=previousslide"/>
          </p:cNvPr>
          <p:cNvSpPr/>
          <p:nvPr/>
        </p:nvSpPr>
        <p:spPr>
          <a:xfrm>
            <a:off x="3657600" y="571500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10800"/>
                </a:moveTo>
                <a:lnTo>
                  <a:pt x="25358" y="3794"/>
                </a:lnTo>
                <a:lnTo>
                  <a:pt x="25358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ff"/>
                </a:solidFill>
                <a:latin typeface="Comic Sans MS"/>
              </a:rPr>
              <a:t>GOOD JOB!!!</a:t>
            </a: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omic Sans MS"/>
              </a:rPr>
              <a:t>Try another.</a:t>
            </a:r>
            <a:endParaRPr b="0" lang="en-US" sz="2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79" name="AutoShape 4">
            <a:hlinkClick r:id="" action="ppaction://hlinkshowjump?jump=nextslide"/>
          </p:cNvPr>
          <p:cNvSpPr/>
          <p:nvPr/>
        </p:nvSpPr>
        <p:spPr>
          <a:xfrm>
            <a:off x="7696080" y="60958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Let’s get started…..</a:t>
            </a: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ff"/>
                </a:solidFill>
                <a:uFillTx/>
                <a:latin typeface="Comic Sans MS"/>
                <a:hlinkClick r:id="rId1" action="ppaction://hlinksldjump"/>
              </a:rPr>
              <a:t>hand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ff"/>
                </a:solidFill>
                <a:uFillTx/>
                <a:latin typeface="Comic Sans MS"/>
                <a:hlinkClick r:id="rId2" action="ppaction://hlinksldjump"/>
              </a:rPr>
              <a:t>Han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Listen for a sound you left out and watch for </a:t>
            </a:r>
            <a:r>
              <a:rPr b="0" lang="en-US" sz="4000" spc="-1" strike="noStrike" u="sng">
                <a:solidFill>
                  <a:srgbClr val="9933ff"/>
                </a:solidFill>
                <a:uFillTx/>
                <a:latin typeface="Comic Sans MS"/>
              </a:rPr>
              <a:t>that</a:t>
            </a: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 capital letter.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Try again.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84" name="AutoShape 4">
            <a:hlinkClick r:id="" action="ppaction://hlinkshowjump?jump=previousslide"/>
          </p:cNvPr>
          <p:cNvSpPr/>
          <p:nvPr/>
        </p:nvSpPr>
        <p:spPr>
          <a:xfrm>
            <a:off x="3657600" y="571500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10800"/>
                </a:moveTo>
                <a:lnTo>
                  <a:pt x="25358" y="3794"/>
                </a:lnTo>
                <a:lnTo>
                  <a:pt x="25358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ff"/>
                </a:solidFill>
                <a:latin typeface="Comic Sans MS"/>
              </a:rPr>
              <a:t>GOOD JOB!!!</a:t>
            </a: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omic Sans MS"/>
              </a:rPr>
              <a:t>Try another.</a:t>
            </a:r>
            <a:endParaRPr b="0" lang="en-US" sz="2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87" name="AutoShape 4">
            <a:hlinkClick r:id="" action="ppaction://hlinkshowjump?jump=nextslide"/>
          </p:cNvPr>
          <p:cNvSpPr/>
          <p:nvPr/>
        </p:nvSpPr>
        <p:spPr>
          <a:xfrm>
            <a:off x="7696080" y="60958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Let’s get started…..</a:t>
            </a: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89" name="Text Box 3">
            <a:hlinkClick r:id="rId1" action="ppaction://hlinksldjump"/>
          </p:cNvPr>
          <p:cNvSpPr/>
          <p:nvPr/>
        </p:nvSpPr>
        <p:spPr>
          <a:xfrm>
            <a:off x="2057400" y="2971800"/>
            <a:ext cx="46483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ff"/>
                </a:solidFill>
                <a:uFillTx/>
                <a:latin typeface="Comic Sans MS"/>
                <a:hlinkClick r:id="rId2" action="ppaction://hlinksldjump"/>
              </a:rPr>
              <a:t>brave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0" name="Text Box 4">
            <a:hlinkClick r:id="rId3" action="ppaction://hlinksldjump"/>
          </p:cNvPr>
          <p:cNvSpPr/>
          <p:nvPr/>
        </p:nvSpPr>
        <p:spPr>
          <a:xfrm>
            <a:off x="2133720" y="4038480"/>
            <a:ext cx="297180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ff"/>
                </a:solidFill>
                <a:uFillTx/>
                <a:latin typeface="Comic Sans MS"/>
                <a:hlinkClick r:id="rId4" action="ppaction://hlinksldjump"/>
              </a:rPr>
              <a:t>brve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Listen for a vowel sound you left out.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Try again.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3" name="AutoShape 4">
            <a:hlinkClick r:id="rId1" action="ppaction://hlinksldjump"/>
          </p:cNvPr>
          <p:cNvSpPr/>
          <p:nvPr/>
        </p:nvSpPr>
        <p:spPr>
          <a:xfrm>
            <a:off x="3657600" y="571500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10800"/>
                </a:moveTo>
                <a:lnTo>
                  <a:pt x="25358" y="3794"/>
                </a:lnTo>
                <a:lnTo>
                  <a:pt x="25358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ff"/>
                </a:solidFill>
                <a:latin typeface="Comic Sans MS"/>
              </a:rPr>
              <a:t>GOOD JOB!!!</a:t>
            </a: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omic Sans MS"/>
              </a:rPr>
              <a:t>Try another.</a:t>
            </a:r>
            <a:endParaRPr b="0" lang="en-US" sz="2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6" name="AutoShape 4">
            <a:hlinkClick r:id="" action="ppaction://hlinkshowjump?jump=nextslide"/>
          </p:cNvPr>
          <p:cNvSpPr/>
          <p:nvPr/>
        </p:nvSpPr>
        <p:spPr>
          <a:xfrm>
            <a:off x="7696080" y="60958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Let’s get started…..</a:t>
            </a: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8" name="Text Box 3">
            <a:hlinkClick r:id="rId1" action="ppaction://hlinksldjump"/>
          </p:cNvPr>
          <p:cNvSpPr/>
          <p:nvPr/>
        </p:nvSpPr>
        <p:spPr>
          <a:xfrm>
            <a:off x="2057400" y="2971800"/>
            <a:ext cx="46483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ff"/>
                </a:solidFill>
                <a:uFillTx/>
                <a:latin typeface="Comic Sans MS"/>
                <a:hlinkClick r:id="rId2" action="ppaction://hlinksldjump"/>
              </a:rPr>
              <a:t>ast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9" name="Text Box 4">
            <a:hlinkClick r:id="rId3" action="ppaction://hlinksldjump"/>
          </p:cNvPr>
          <p:cNvSpPr/>
          <p:nvPr/>
        </p:nvSpPr>
        <p:spPr>
          <a:xfrm>
            <a:off x="2133720" y="4038480"/>
            <a:ext cx="297180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ff"/>
                </a:solidFill>
                <a:uFillTx/>
                <a:latin typeface="Comic Sans MS"/>
                <a:hlinkClick r:id="rId4" action="ppaction://hlinksldjump"/>
              </a:rPr>
              <a:t>ask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Listen for the last sound. 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Try again.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2" name="AutoShape 4">
            <a:hlinkClick r:id="rId1" action="ppaction://hlinksldjump"/>
          </p:cNvPr>
          <p:cNvSpPr/>
          <p:nvPr/>
        </p:nvSpPr>
        <p:spPr>
          <a:xfrm>
            <a:off x="3657600" y="571500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10800"/>
                </a:moveTo>
                <a:lnTo>
                  <a:pt x="25358" y="3794"/>
                </a:lnTo>
                <a:lnTo>
                  <a:pt x="25358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Guess the Correct Word</a:t>
            </a: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One word is wrong and one is right.</a:t>
            </a: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Choose the </a:t>
            </a:r>
            <a:r>
              <a:rPr b="1" lang="en-US" sz="3200" spc="-1" strike="noStrike" u="sng">
                <a:solidFill>
                  <a:srgbClr val="9933ff"/>
                </a:solidFill>
                <a:uFillTx/>
                <a:latin typeface="Comic Sans MS"/>
              </a:rPr>
              <a:t>correct</a:t>
            </a: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 word.</a:t>
            </a: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ff"/>
                </a:solidFill>
                <a:latin typeface="Comic Sans MS"/>
              </a:rPr>
              <a:t>GOOD JOB!!!</a:t>
            </a: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omic Sans MS"/>
              </a:rPr>
              <a:t>Try another.</a:t>
            </a:r>
            <a:endParaRPr b="0" lang="en-US" sz="2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5" name="AutoShape 4">
            <a:hlinkClick r:id="" action="ppaction://hlinkshowjump?jump=nextslide"/>
          </p:cNvPr>
          <p:cNvSpPr/>
          <p:nvPr/>
        </p:nvSpPr>
        <p:spPr>
          <a:xfrm>
            <a:off x="7696080" y="60958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Let’s get started…..</a:t>
            </a: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7" name="Text Box 3">
            <a:hlinkClick r:id="rId1" action="ppaction://hlinksldjump"/>
          </p:cNvPr>
          <p:cNvSpPr/>
          <p:nvPr/>
        </p:nvSpPr>
        <p:spPr>
          <a:xfrm>
            <a:off x="2057400" y="2971800"/>
            <a:ext cx="46483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ff"/>
                </a:solidFill>
                <a:uFillTx/>
                <a:latin typeface="Comic Sans MS"/>
                <a:hlinkClick r:id="rId2" action="ppaction://hlinksldjump"/>
              </a:rPr>
              <a:t>cip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8" name="Text Box 4">
            <a:hlinkClick r:id="rId3" action="ppaction://hlinksldjump"/>
          </p:cNvPr>
          <p:cNvSpPr/>
          <p:nvPr/>
        </p:nvSpPr>
        <p:spPr>
          <a:xfrm>
            <a:off x="2133720" y="4038480"/>
            <a:ext cx="297180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ff"/>
                </a:solidFill>
                <a:uFillTx/>
                <a:latin typeface="Comic Sans MS"/>
                <a:hlinkClick r:id="rId4" action="ppaction://hlinksldjump"/>
              </a:rPr>
              <a:t>clip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Listen for the consonant blend. 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Try again.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11" name="AutoShape 4">
            <a:hlinkClick r:id="rId1" action="ppaction://hlinksldjump"/>
          </p:cNvPr>
          <p:cNvSpPr/>
          <p:nvPr/>
        </p:nvSpPr>
        <p:spPr>
          <a:xfrm>
            <a:off x="3657600" y="571500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10800"/>
                </a:moveTo>
                <a:lnTo>
                  <a:pt x="25358" y="3794"/>
                </a:lnTo>
                <a:lnTo>
                  <a:pt x="25358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ff"/>
                </a:solidFill>
                <a:latin typeface="Comic Sans MS"/>
              </a:rPr>
              <a:t>GOOD JOB!!!</a:t>
            </a: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omic Sans MS"/>
              </a:rPr>
              <a:t>Try another.</a:t>
            </a:r>
            <a:endParaRPr b="0" lang="en-US" sz="2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14" name="AutoShape 4">
            <a:hlinkClick r:id="" action="ppaction://hlinkshowjump?jump=nextslide"/>
          </p:cNvPr>
          <p:cNvSpPr/>
          <p:nvPr/>
        </p:nvSpPr>
        <p:spPr>
          <a:xfrm>
            <a:off x="7696080" y="60958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Let’s get started…..</a:t>
            </a: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16" name="Text Box 3">
            <a:hlinkClick r:id="rId1" action="ppaction://hlinksldjump"/>
          </p:cNvPr>
          <p:cNvSpPr/>
          <p:nvPr/>
        </p:nvSpPr>
        <p:spPr>
          <a:xfrm>
            <a:off x="2057400" y="2971800"/>
            <a:ext cx="46483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ff"/>
                </a:solidFill>
                <a:uFillTx/>
                <a:latin typeface="Comic Sans MS"/>
                <a:hlinkClick r:id="rId2" action="ppaction://hlinksldjump"/>
              </a:rPr>
              <a:t>stream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17" name="Text Box 4">
            <a:hlinkClick r:id="rId3" action="ppaction://hlinksldjump"/>
          </p:cNvPr>
          <p:cNvSpPr/>
          <p:nvPr/>
        </p:nvSpPr>
        <p:spPr>
          <a:xfrm>
            <a:off x="2133720" y="4038480"/>
            <a:ext cx="297180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ff"/>
                </a:solidFill>
                <a:uFillTx/>
                <a:latin typeface="Comic Sans MS"/>
                <a:hlinkClick r:id="rId4" action="ppaction://hlinksldjump"/>
              </a:rPr>
              <a:t>streme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This word has a vowel digraph. 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Try again.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20" name="AutoShape 4">
            <a:hlinkClick r:id="rId1" action="ppaction://hlinksldjump"/>
          </p:cNvPr>
          <p:cNvSpPr/>
          <p:nvPr/>
        </p:nvSpPr>
        <p:spPr>
          <a:xfrm>
            <a:off x="3657600" y="571500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10800"/>
                </a:moveTo>
                <a:lnTo>
                  <a:pt x="25358" y="3794"/>
                </a:lnTo>
                <a:lnTo>
                  <a:pt x="25358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ff"/>
                </a:solidFill>
                <a:latin typeface="Comic Sans MS"/>
              </a:rPr>
              <a:t>GOOD JOB!!!</a:t>
            </a: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omic Sans MS"/>
              </a:rPr>
              <a:t>Try another.</a:t>
            </a:r>
            <a:endParaRPr b="0" lang="en-US" sz="2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23" name="AutoShape 4">
            <a:hlinkClick r:id="" action="ppaction://hlinkshowjump?jump=nextslide"/>
          </p:cNvPr>
          <p:cNvSpPr/>
          <p:nvPr/>
        </p:nvSpPr>
        <p:spPr>
          <a:xfrm>
            <a:off x="7696080" y="60958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Let’s get started…..</a:t>
            </a: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25" name="Text Box 3">
            <a:hlinkClick r:id="rId1" action="ppaction://hlinksldjump"/>
          </p:cNvPr>
          <p:cNvSpPr/>
          <p:nvPr/>
        </p:nvSpPr>
        <p:spPr>
          <a:xfrm>
            <a:off x="2057400" y="2971800"/>
            <a:ext cx="46483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ff"/>
                </a:solidFill>
                <a:uFillTx/>
                <a:latin typeface="Comic Sans MS"/>
                <a:hlinkClick r:id="rId2" action="ppaction://hlinksldjump"/>
              </a:rPr>
              <a:t>mas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26" name="Text Box 4">
            <a:hlinkClick r:id="rId3" action="ppaction://hlinksldjump"/>
          </p:cNvPr>
          <p:cNvSpPr/>
          <p:nvPr/>
        </p:nvSpPr>
        <p:spPr>
          <a:xfrm>
            <a:off x="2133720" y="4038480"/>
            <a:ext cx="297180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ff"/>
                </a:solidFill>
                <a:uFillTx/>
                <a:latin typeface="Comic Sans MS"/>
                <a:hlinkClick r:id="rId4" action="ppaction://hlinksldjump"/>
              </a:rPr>
              <a:t>mast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Listen for the last sound. 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Try again.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29" name="AutoShape 4">
            <a:hlinkClick r:id="rId1" action="ppaction://hlinksldjump"/>
          </p:cNvPr>
          <p:cNvSpPr/>
          <p:nvPr/>
        </p:nvSpPr>
        <p:spPr>
          <a:xfrm>
            <a:off x="3657600" y="571500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10800"/>
                </a:moveTo>
                <a:lnTo>
                  <a:pt x="25358" y="3794"/>
                </a:lnTo>
                <a:lnTo>
                  <a:pt x="25358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ff"/>
                </a:solidFill>
                <a:latin typeface="Comic Sans MS"/>
              </a:rPr>
              <a:t>GOOD JOB!!!</a:t>
            </a: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omic Sans MS"/>
              </a:rPr>
              <a:t>Try another.</a:t>
            </a:r>
            <a:endParaRPr b="0" lang="en-US" sz="2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32" name="AutoShape 4">
            <a:hlinkClick r:id="rId1" action="ppaction://hlinksldjump"/>
          </p:cNvPr>
          <p:cNvSpPr/>
          <p:nvPr/>
        </p:nvSpPr>
        <p:spPr>
          <a:xfrm>
            <a:off x="7696080" y="60958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Let’s get started…..</a:t>
            </a: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ff"/>
                </a:solidFill>
                <a:uFillTx/>
                <a:latin typeface="Comic Sans MS"/>
                <a:hlinkClick r:id="rId1" action="ppaction://hlinksldjump"/>
              </a:rPr>
              <a:t>stop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ff"/>
                </a:solidFill>
                <a:uFillTx/>
                <a:latin typeface="Comic Sans MS"/>
                <a:hlinkClick r:id="rId2" action="ppaction://hlinksldjump"/>
              </a:rPr>
              <a:t>stoop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Let’s get started…..</a:t>
            </a: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34" name="Text Box 3">
            <a:hlinkClick r:id="rId1" action="ppaction://hlinksldjump"/>
          </p:cNvPr>
          <p:cNvSpPr/>
          <p:nvPr/>
        </p:nvSpPr>
        <p:spPr>
          <a:xfrm>
            <a:off x="2057400" y="2971800"/>
            <a:ext cx="46483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ff"/>
                </a:solidFill>
                <a:uFillTx/>
                <a:latin typeface="Comic Sans MS"/>
                <a:hlinkClick r:id="rId2" action="ppaction://hlinksldjump"/>
              </a:rPr>
              <a:t>twin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35" name="Text Box 4">
            <a:hlinkClick r:id="rId3" action="ppaction://hlinksldjump"/>
          </p:cNvPr>
          <p:cNvSpPr/>
          <p:nvPr/>
        </p:nvSpPr>
        <p:spPr>
          <a:xfrm>
            <a:off x="2133720" y="4038480"/>
            <a:ext cx="297180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ff"/>
                </a:solidFill>
                <a:uFillTx/>
                <a:latin typeface="Comic Sans MS"/>
                <a:hlinkClick r:id="rId4" action="ppaction://hlinksldjump"/>
              </a:rPr>
              <a:t>tvin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Listen for the blend sound. 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Try again.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3657600" y="571500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10800"/>
                </a:moveTo>
                <a:lnTo>
                  <a:pt x="25358" y="3794"/>
                </a:lnTo>
                <a:lnTo>
                  <a:pt x="25358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ff"/>
                </a:solidFill>
                <a:latin typeface="Comic Sans MS"/>
              </a:rPr>
              <a:t>GOOD JOB!!!</a:t>
            </a: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omic Sans MS"/>
              </a:rPr>
              <a:t>Try another.</a:t>
            </a:r>
            <a:endParaRPr b="0" lang="en-US" sz="2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41" name="AutoShape 4">
            <a:hlinkClick r:id="" action="ppaction://hlinkshowjump?jump=nextslide"/>
          </p:cNvPr>
          <p:cNvSpPr/>
          <p:nvPr/>
        </p:nvSpPr>
        <p:spPr>
          <a:xfrm>
            <a:off x="7696080" y="60958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Let’s get started…..</a:t>
            </a: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2057400" y="297180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33ff"/>
                </a:solidFill>
                <a:latin typeface="Comic Sans MS"/>
              </a:rPr>
              <a:t>breze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2133720" y="40384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33ff"/>
                </a:solidFill>
                <a:latin typeface="Comic Sans MS"/>
              </a:rPr>
              <a:t>breeze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This word has a vowel digraph. 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Try again.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3657600" y="571500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10800"/>
                </a:moveTo>
                <a:lnTo>
                  <a:pt x="25358" y="3794"/>
                </a:lnTo>
                <a:lnTo>
                  <a:pt x="25358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ff"/>
                </a:solidFill>
                <a:latin typeface="Comic Sans MS"/>
              </a:rPr>
              <a:t>GOOD JOB!!!</a:t>
            </a: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omic Sans MS"/>
              </a:rPr>
              <a:t>Try another.</a:t>
            </a:r>
            <a:endParaRPr b="0" lang="en-US" sz="2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50" name="AutoShape 4">
            <a:hlinkClick r:id="" action="ppaction://hlinkshowjump?jump=nextslide"/>
          </p:cNvPr>
          <p:cNvSpPr/>
          <p:nvPr/>
        </p:nvSpPr>
        <p:spPr>
          <a:xfrm>
            <a:off x="7696080" y="60958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Let’s get started…..</a:t>
            </a: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2057400" y="297180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33ff"/>
                </a:solidFill>
                <a:latin typeface="Comic Sans MS"/>
              </a:rPr>
              <a:t>state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2133720" y="40384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33ff"/>
                </a:solidFill>
                <a:latin typeface="Comic Sans MS"/>
              </a:rPr>
              <a:t>sate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Listen for the consonant blend. 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Try again.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56" name="AutoShape 4"/>
          <p:cNvSpPr/>
          <p:nvPr/>
        </p:nvSpPr>
        <p:spPr>
          <a:xfrm>
            <a:off x="3657600" y="571500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10800"/>
                </a:moveTo>
                <a:lnTo>
                  <a:pt x="25358" y="3794"/>
                </a:lnTo>
                <a:lnTo>
                  <a:pt x="25358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ff"/>
                </a:solidFill>
                <a:latin typeface="Comic Sans MS"/>
              </a:rPr>
              <a:t>GOOD JOB!!!</a:t>
            </a:r>
            <a:endParaRPr b="0" lang="en-US" sz="7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7696080" y="60958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33ff"/>
                </a:solidFill>
                <a:latin typeface="Comic Sans MS"/>
              </a:rPr>
              <a:t>   </a:t>
            </a:r>
            <a:r>
              <a:rPr b="0" lang="en-US" sz="7200" spc="-1" strike="noStrike">
                <a:solidFill>
                  <a:srgbClr val="9933ff"/>
                </a:solidFill>
                <a:latin typeface="Comic Sans MS"/>
              </a:rPr>
              <a:t>Good job !!!</a:t>
            </a:r>
            <a:endParaRPr b="0" lang="en-US" sz="7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33ff"/>
                </a:solidFill>
                <a:latin typeface="Comic Sans MS"/>
              </a:rPr>
              <a:t>Keep up the</a:t>
            </a:r>
            <a:endParaRPr b="0" lang="en-US" sz="7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33ff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9933ff"/>
                </a:solidFill>
                <a:latin typeface="Comic Sans MS"/>
              </a:rPr>
              <a:t>good work.</a:t>
            </a:r>
            <a:endParaRPr b="0" lang="en-US" sz="72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The word you chose does not have a short “o” vowel sound.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Try again.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9" name="AutoShape 4">
            <a:hlinkClick r:id="" action="ppaction://hlinkshowjump?jump=previousslide"/>
          </p:cNvPr>
          <p:cNvSpPr/>
          <p:nvPr/>
        </p:nvSpPr>
        <p:spPr>
          <a:xfrm>
            <a:off x="3657600" y="571500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10800"/>
                </a:moveTo>
                <a:lnTo>
                  <a:pt x="25358" y="3794"/>
                </a:lnTo>
                <a:lnTo>
                  <a:pt x="25358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ff"/>
                </a:solidFill>
                <a:latin typeface="Comic Sans MS"/>
              </a:rPr>
              <a:t>GOOD JOB!!!</a:t>
            </a: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omic Sans MS"/>
              </a:rPr>
              <a:t>Try another.</a:t>
            </a:r>
            <a:endParaRPr b="0" lang="en-US" sz="2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62" name="AutoShape 4">
            <a:hlinkClick r:id="" action="ppaction://hlinkshowjump?jump=nextslide"/>
          </p:cNvPr>
          <p:cNvSpPr/>
          <p:nvPr/>
        </p:nvSpPr>
        <p:spPr>
          <a:xfrm>
            <a:off x="7696080" y="60958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Let’s get started…..</a:t>
            </a: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ff"/>
                </a:solidFill>
                <a:uFillTx/>
                <a:latin typeface="Comic Sans MS"/>
                <a:hlinkClick r:id="rId1" action="ppaction://hlinksldjump"/>
              </a:rPr>
              <a:t>stap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ff"/>
                </a:solidFill>
                <a:uFillTx/>
                <a:latin typeface="Comic Sans MS"/>
                <a:hlinkClick r:id="rId2" action="ppaction://hlinksldjump"/>
              </a:rPr>
              <a:t>strap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Listen for a sound you left out.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Try again.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67" name="AutoShape 4">
            <a:hlinkClick r:id="" action="ppaction://hlinkshowjump?jump=previousslide"/>
          </p:cNvPr>
          <p:cNvSpPr/>
          <p:nvPr/>
        </p:nvSpPr>
        <p:spPr>
          <a:xfrm>
            <a:off x="3657600" y="571500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10800"/>
                </a:moveTo>
                <a:lnTo>
                  <a:pt x="25358" y="3794"/>
                </a:lnTo>
                <a:lnTo>
                  <a:pt x="25358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ff"/>
                </a:solidFill>
                <a:latin typeface="Comic Sans MS"/>
              </a:rPr>
              <a:t>GOOD JOB!!!</a:t>
            </a: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omic Sans MS"/>
              </a:rPr>
              <a:t>Try another.</a:t>
            </a:r>
            <a:endParaRPr b="0" lang="en-US" sz="2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70" name="AutoShape 4">
            <a:hlinkClick r:id="" action="ppaction://hlinkshowjump?jump=nextslide"/>
          </p:cNvPr>
          <p:cNvSpPr/>
          <p:nvPr/>
        </p:nvSpPr>
        <p:spPr>
          <a:xfrm>
            <a:off x="7696080" y="60958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Let’s get started…..</a:t>
            </a: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72" name="Text Box 5">
            <a:hlinkClick r:id="rId1" action="ppaction://hlinksldjump"/>
          </p:cNvPr>
          <p:cNvSpPr/>
          <p:nvPr/>
        </p:nvSpPr>
        <p:spPr>
          <a:xfrm>
            <a:off x="2057400" y="297180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33ff"/>
                </a:solidFill>
                <a:latin typeface="Comic Sans MS"/>
              </a:rPr>
              <a:t>nex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73" name="Text Box 6">
            <a:hlinkClick r:id="rId2" action="ppaction://hlinksldjump"/>
          </p:cNvPr>
          <p:cNvSpPr/>
          <p:nvPr/>
        </p:nvSpPr>
        <p:spPr>
          <a:xfrm>
            <a:off x="2133720" y="40384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33ff"/>
                </a:solidFill>
                <a:latin typeface="Comic Sans MS"/>
              </a:rPr>
              <a:t>next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17:31:42Z</dcterms:created>
  <dc:creator>S12</dc:creator>
  <dc:description/>
  <dc:language>en-US</dc:language>
  <cp:lastModifiedBy>Laura McDow</cp:lastModifiedBy>
  <dcterms:modified xsi:type="dcterms:W3CDTF">2010-08-26T00:23:21Z</dcterms:modified>
  <cp:revision>13</cp:revision>
  <dc:subject/>
  <dc:title>Henry and Mudge</dc:title>
</cp:coreProperties>
</file>